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25FD3-64EB-4490-B901-94E7072FE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5936C-548C-49CC-B812-E782F237A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1F2E3-B85B-49DD-9C4C-3A87042A7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4AB31-87D5-4C05-B338-AAB04C29C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DE7CB-CF2D-4163-AE16-1D174DAB2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A870A-E9B6-4853-BAF0-596DB816A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0EC1E-9D8D-4210-8376-9A3BC3D5D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F01CE-E2F5-4C98-BAC2-66C7911FF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667BE-BFFB-4310-8E92-B632261EF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8A91C-42C3-4456-83D0-C4D8128E3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F5A76-2E6A-4235-BF79-80F56A251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65B2F-BC8D-4E93-A943-2BDCECA2C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d4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618A6-DF63-45FB-8228-4FF0FBF5AE6A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d4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238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5500" spc="-1" strike="noStrike">
                <a:solidFill>
                  <a:srgbClr val="3333cc"/>
                </a:solidFill>
                <a:latin typeface="Times New Roman"/>
              </a:rPr>
              <a:t>Gli organismi geneticamente modificati ogm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cc"/>
                </a:solidFill>
                <a:latin typeface="Times New Roman"/>
              </a:rPr>
              <a:t>Pio Russo Krau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3333cc"/>
                </a:solidFill>
                <a:latin typeface="Times New Roman"/>
              </a:rPr>
              <a:t>Associazione Marco Mascagna onl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 u="sng">
                <a:solidFill>
                  <a:srgbClr val="3333cc"/>
                </a:solidFill>
                <a:uFillTx/>
                <a:latin typeface="Times New Roman"/>
              </a:rPr>
              <a:t>www.giardinodimarco.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3333cc"/>
                </a:solidFill>
                <a:latin typeface="Times New Roman"/>
              </a:rPr>
              <a:t>Responsabile del CEDRAS Centro di Documentazione e Ricerca sull´Ambiente ela Salute ASL Napoli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d4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rganismi geneticamente modificati (OGM)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380520" y="2057400"/>
            <a:ext cx="80010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Sono organismi (piante, batteri, animali) che hanno un patrimonio genetico modificato perché è stato inserito un gene che proviene da un’altra specie (es. inserimento di un gene di un batterio nel patrimonio genetico della mais, per avere mais resistente ai parassiti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d4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’interesse degli ogm in campo alimenta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spcAft>
                <a:spcPts val="938"/>
              </a:spcAft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organismi più resistenti (resistenza a parassiti o a diserbanti, crescita in suoli aridi, pesci resistenti ad acque gelide ecc.)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spcAft>
                <a:spcPts val="938"/>
              </a:spcAft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prodotti agricoli meno marcescibili (es. pomodori che durano anche più di un mese)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spcAft>
                <a:spcPts val="938"/>
              </a:spcAft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alimenti con migliori caratteristiche nutrizionali (es. con vitamine o con pochi grassi saturi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spcAft>
                <a:spcPts val="938"/>
              </a:spcAft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varietà “giganti” (polli con petto gigante ecc.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d4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ltre applicazioni degli og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38"/>
              </a:spcBef>
              <a:spcAft>
                <a:spcPts val="938"/>
              </a:spcAft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fabbricazione di vaccini, ormoni, farmaci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38"/>
              </a:spcBef>
              <a:spcAft>
                <a:spcPts val="938"/>
              </a:spcAft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animali con organi da trapiantare nell’uom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38"/>
              </a:spcBef>
              <a:spcAft>
                <a:spcPts val="938"/>
              </a:spcAft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“</a:t>
            </a:r>
            <a:r>
              <a:rPr b="1" lang="en-US" sz="3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animali-modello” per studiare patologi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38"/>
              </a:spcBef>
              <a:spcAft>
                <a:spcPts val="938"/>
              </a:spcAft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reazione di prodotti di “consumo” (prati colorati, animali e piante fosforescenti, piante con indicatori di carenza d’acqua ecc.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d4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nconvenienti tecnic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spcAft>
                <a:spcPts val="1001"/>
              </a:spcAft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assa percentuale di successo (&lt;1%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spcAft>
                <a:spcPts val="1001"/>
              </a:spcAft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r>
              <a:rPr b="1" lang="it-IT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possibilità di sviluppo di individui con duplice patrimonio genetico (chimere) o con malformazioni e/o malatt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spcAft>
                <a:spcPts val="1001"/>
              </a:spcAft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possibilità di mancata espressione genica o di altra espressione genica</a:t>
            </a:r>
            <a:r>
              <a:rPr b="0" lang="it-IT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r>
              <a:rPr b="1" lang="it-IT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(es. salmoni non resistenti al freddo ma giganti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d4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Rischi per la salu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0000"/>
                </a:solidFill>
                <a:latin typeface="Times New Roman"/>
              </a:rPr>
              <a:t>Sembrano essere bass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33cc"/>
                </a:solidFill>
                <a:latin typeface="Times New Roman"/>
              </a:rPr>
              <a:t>Allergie: </a:t>
            </a:r>
            <a:r>
              <a:rPr b="1" lang="it-IT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soggetti allergici alla noce brasiliana hanno avuto reazioni allergiche dopo aver mangiato soia nella quale era stato inserito un gene della noce brasiliana, poiché si inseriscono geni di piante e animali non commestibili il rischio di reazioni allergiche inaspettate potrebbe essere alto.</a:t>
            </a:r>
            <a:r>
              <a:rPr b="0" lang="it-IT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33cc"/>
                </a:solidFill>
                <a:latin typeface="Times New Roman"/>
              </a:rPr>
              <a:t>Malattie degenerative (?): topi nutriti con una nuova varietà di mais ogm hanno presentato alterazioni della mucosa intestina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d4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Rischi per l’ambien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just">
              <a:lnSpc>
                <a:spcPct val="90000"/>
              </a:lnSpc>
              <a:spcBef>
                <a:spcPts val="601"/>
              </a:spcBef>
              <a:spcAft>
                <a:spcPts val="751"/>
              </a:spcAft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lterazione degli equilibri naturali: </a:t>
            </a:r>
            <a:r>
              <a:rPr b="1" lang="it-IT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l’introduzione di una specie nuova in un ecosistema può provocare gravi catastrofi      </a:t>
            </a:r>
            <a:r>
              <a:rPr b="1" lang="it-IT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(es. conigli in Australia; il mais transgenico resistente alla Piralide ha provocato l’estinzione della farfalla Monarca nei terreni trattati; in campi con piante resistenti a diserbanti si sono avuti modifiche nelle popolazioni batteriche del terreno). 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lnSpc>
                <a:spcPct val="90000"/>
              </a:lnSpc>
              <a:spcBef>
                <a:spcPts val="700"/>
              </a:spcBef>
              <a:spcAft>
                <a:spcPts val="876"/>
              </a:spcAft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ischio di estinzione di specie naturali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lnSpc>
                <a:spcPct val="90000"/>
              </a:lnSpc>
              <a:spcBef>
                <a:spcPts val="700"/>
              </a:spcBef>
              <a:spcAft>
                <a:spcPts val="876"/>
              </a:spcAft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ischio di sviluppo di specie dannose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spcAft>
                <a:spcPts val="876"/>
              </a:spcAft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ischio di maggiore inquinamento da diserban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d4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ormativa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egolamento CE 1829 del 22 settembre 200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ogm destinati all’alimentazi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limenti che contengono og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limenti prodotti a partire da ogm o che contengono ingredienti prodotti a partire da ogm</a:t>
            </a:r>
            <a:r>
              <a:rPr b="1" lang="it-IT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I prodotti devono riportare nell’etichetta la dicitura “geneticamente modificato” se ne contiene più dello 0,9%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La presenza accidentale o tecnicamente inevitabile è inferiore a 0,5%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8T07:14:38Z</dcterms:created>
  <dc:creator>Dott. Krauss</dc:creator>
  <dc:description/>
  <dc:language>en-US</dc:language>
  <cp:lastModifiedBy>chiara russo krauss</cp:lastModifiedBy>
  <dcterms:modified xsi:type="dcterms:W3CDTF">2008-09-24T12:50:40Z</dcterms:modified>
  <cp:revision>4</cp:revision>
  <dc:subject/>
  <dc:title>Organismi geneticamente modificati (OGM) </dc:title>
</cp:coreProperties>
</file>